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7818-3F17-4226-B1BF-6D89A775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A6D7-798A-4AA5-8129-4D712347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0D26-E1DD-45A5-9375-F168EF61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B5C-0366-49F9-9F57-7BE4D648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BB41-2390-460D-9F41-891DE29C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561-3498-4715-8768-F20418C8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380A-35B3-4E81-A65A-EB522B49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046-ECB1-4019-B0A7-2DDA9C4E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3C01-0988-4177-A26C-46890B91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D87A-614F-41ED-855E-11019E81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2F48-04A4-4D2A-A136-17C64033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D760-1E34-483D-917E-F40D8BC8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0D93-261B-4363-84D5-D01F77960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desktopgoldfish.com/goldfish-types.php" TargetMode="External"/><Relationship Id="rId2" Type="http://schemas.openxmlformats.org/officeDocument/2006/relationships/hyperlink" Target="http://www.youtube.com/watch?v=L_Iznh9VbsY&amp;feature=related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Set-Up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ne Bi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76920" y="685800"/>
            <a:ext cx="38862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hallow Seas Mov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k Material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Tank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Tank Set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on. Jan. 11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 am Pre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ank Materials Cont. &amp; Dry Set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benefit of a large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be done to water before it is added to a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3 types of filtration? Briefly describe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y Tank Set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OAP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Gravel and Rinse until runs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nse/Wipe off everything inside of t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 and label all airline tub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all electrical plugs. (Do not plug in he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tenance Materials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 Ta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Te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ri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Ki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 Side of 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hlor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monia Tes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ite Tes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ate Tes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ph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ss Scrub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Petsmart/Petco Tank Set-Up Pamph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Petsmart/Petco Nitrogen Cycle Pamph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t Tank Set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 Atrium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ed. Jan. 13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ermission Sli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itrogen Cycle, Wet-Tank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urpose of the bubbler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selling a fish tank kit, what items would be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83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241760" y="18288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0760" y="19051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ss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ng The T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17551" r="0" b="0"/>
          <a:stretch/>
        </p:blipFill>
        <p:spPr>
          <a:xfrm>
            <a:off x="228600" y="2743200"/>
            <a:ext cx="86868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t Tank Set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Grate, Gravel, Airline Tubing, Bubbler Tubes and background set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ank in permanent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Water, Dechlor, Salt and Charco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g in Bubblers, Heaters and L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on and adjust gang-va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Set-Up Unit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1: Class Intro, Tank Materials, Shallow S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2: I am, Clean Out Tanks, Dry Tank Set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3: Nitrogen Cycle, Wet Tank Set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4: Tank Testing, Bacteri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5: Introduction, Mistakes, Common F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6: Field Trip to Pets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7: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8: Tank Set-Up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Nitrogen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Tank Grad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 Zone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k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Siph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alendars, Salt, Dechlor,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 Atrium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ri Jan 15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ad Zone, Tank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raw a diagram of the nitrogen cycle, showing the chemicals, who is making the chemical conversions and time periods (wee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ank Grades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10% of total g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%= Check Tank &gt;1x/week out of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heck Tank 1x/week out of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heck Tank &lt;1x/week out of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5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lways contribute effort in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% = Almost always contribute effort in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= Reluctant to contribute effo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 = Must be asked to contribute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70% = Don’t contribute, don’t help, don’t siphon, don’t get wet or don’t have fi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nk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angero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d Lev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happe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trium T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group is responsible for the atrium tank for 1 week during seme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eed 1 spoon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eek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crub glass &amp; change 15 gallons of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mmonia, Nitrite and Nitrate, rec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he chemical is b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ange is desi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olve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is occur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ad Zone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ead z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he dead zone to your fish tank. How could a dead zone occur in your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flow chart to show why the dead zone occ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4816440"/>
            <a:ext cx="3048120" cy="2041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48120" y="4818240"/>
            <a:ext cx="2895480" cy="2039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019920" y="4767120"/>
            <a:ext cx="31240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m I made of Cor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of the human body is made of carb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50% of American’s Carbon is from c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19920" y="4408560"/>
            <a:ext cx="2676240" cy="1992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2384280" cy="2867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5410080"/>
            <a:ext cx="1600200" cy="1057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733920" y="4724280"/>
            <a:ext cx="21240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Tes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an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Mist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ish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nk Set-Up Uni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k Materials Notes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ow Seas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co-Setting Up An Aqua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mart-Setting Up an Aqua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co-Nitrogen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smart-Nitrogen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k Test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Zon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 Disease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Mistake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Day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ay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ed Jan 20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member- Field Trip next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istakes,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hemical levels would you expect to be high?  Why is this happening?  What should be d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Your 3-week old fish has lost its color and clamping its f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Your fish dies after 3-days in a brand new tan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Algae is beginning to grow in your t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Briefly state what the “Dead Zone” is and how it could occur in your t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thane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Methan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ould methane production occur in your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Methane Production to the Dead Zone? (Similar/Differe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816440"/>
            <a:ext cx="3048120" cy="2041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48120" y="4818240"/>
            <a:ext cx="2895480" cy="2039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019920" y="4767120"/>
            <a:ext cx="312408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vs. Bad Bacter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508200" y="4267080"/>
            <a:ext cx="166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osom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ob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ano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o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mon Mist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istakes are problems with the Nitrogen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istakes are problems that are not due to the Nitrogen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57800" y="3718080"/>
            <a:ext cx="38862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16666" r="0" b="14584"/>
          <a:stretch/>
        </p:blipFill>
        <p:spPr>
          <a:xfrm>
            <a:off x="0" y="1523880"/>
            <a:ext cx="8991720" cy="46371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Freshwater /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opical 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57880" y="5638680"/>
            <a:ext cx="53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esktopgoldfish.com/goldfish-types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24360" y="6216480"/>
            <a:ext cx="67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L_Iznh9VbsY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124080" y="1523880"/>
            <a:ext cx="2901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Bacteria, Mistak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l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ri Jan 22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heck on Fish (Monda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cclimation, Get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2 good bacteria and 2 bad bacteria in your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common mistakes people make into 4 categ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Read “Adding Fish” on Petsmart Tank Set-Up Hand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Accli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 vs. Saltwater 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ish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fo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ue Jan 26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older and Test (Thu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arine Tanks,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o introduce a fish into a fish t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your fish: type, color, unique features, location, behavior, movement, interaction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nk Set-Up Unit Score C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Title Page &amp; 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Tank Materials Notes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Shallow Seas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4 Set-Up and Nitrogen Cycle Hand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Tank Test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Dead Zon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1 Fish Disease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2.5 Common Mistake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2.5 Fish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/5 FTF Day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/ 70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52280"/>
            <a:ext cx="40384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3724200"/>
            <a:ext cx="4724280" cy="3133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76920" y="3668760"/>
            <a:ext cx="4267080" cy="3189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57200" y="1143000"/>
            <a:ext cx="1676520" cy="1298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2209680" y="1295280"/>
            <a:ext cx="1685880" cy="1266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7086600" y="104760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4952880" y="1066680"/>
            <a:ext cx="190512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Set-Up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udents should be ab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ll tank mate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a new tank &amp; prepare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filtration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Nitrogen Cycle in det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Dead Z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oblems/mistakes in the t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common freshwater f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te Salt and Freshwater Ta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new f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(F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in Fol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solidFill>
            <a:srgbClr val="fa1d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ur Jan 28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ank Label (Fish Name, Picture, Interesting Inf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 how to set-up a fish t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following f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Aurora Cichlid."/>
          <p:cNvPicPr/>
          <p:nvPr/>
        </p:nvPicPr>
        <p:blipFill>
          <a:blip r:embed="rId1"/>
          <a:stretch/>
        </p:blipFill>
        <p:spPr>
          <a:xfrm>
            <a:off x="4419720" y="4191120"/>
            <a:ext cx="1981080" cy="1347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858000" y="4114800"/>
            <a:ext cx="2133720" cy="1360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438280" y="4191120"/>
            <a:ext cx="1828800" cy="1380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Tiger Barb."/>
          <p:cNvPicPr/>
          <p:nvPr/>
        </p:nvPicPr>
        <p:blipFill>
          <a:blip r:embed="rId4"/>
          <a:stretch/>
        </p:blipFill>
        <p:spPr>
          <a:xfrm>
            <a:off x="228600" y="4343400"/>
            <a:ext cx="22096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/Re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k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llow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Things 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ay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ur Jan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 am Presentation Emailed (M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ank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your experience with the Ocean, Marine Biology and Fish Tank C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art of Marine Biology are you most interested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your expectation for this class?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Marine Bio Career, Entertainment, Credits, Interest etc.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nk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esth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éc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ysic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b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l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m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log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hlor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nk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ai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esth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el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Environment -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 - He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ogen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il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ed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-on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p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Dead 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log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-Gravel 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p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hlorin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ss Co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FFCO</cp:lastModifiedBy>
  <dcterms:modified xsi:type="dcterms:W3CDTF">2010-01-29T18:15:57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