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612-1A64-49AA-8145-11614A33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B7E-E976-441B-9E0A-BD19470E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BD8-2A09-440C-9DA6-8BC2452F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1B2-C72C-42CC-9BB8-D3E24977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E9E-9752-4C73-B55E-23D1CE60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DE9-CE2F-438D-88E3-6DB0896B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314-E08D-457E-9EF4-15BD15D7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460-1914-4D40-8298-F81EE71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982-2003-4AA8-A579-8D35A8F0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EE9-570D-4D55-A8A6-BB22E134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C02-3EBC-4001-99FC-DB4B1946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1BE-4068-4B7A-A7B4-52CEA2A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7B73-93D4-47D5-A4F4-4BD707AF9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esktopgoldfish.com/goldfish-types.php" TargetMode="External"/><Relationship Id="rId2" Type="http://schemas.openxmlformats.org/officeDocument/2006/relationships/hyperlink" Target="http://www.youtube.com/watch?v=L_Iznh9VbsY&amp;feature=related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B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8862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llow Seas Mo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ank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n. Jan. 11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 am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Materials Cont. &amp; Dry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enefit of a large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done to water before it is added to a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3 types of filtration? Briefly describe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OAP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Gravel and Rinse until ru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se/Wipe off everything inside of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and label all airline tu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all electrical plugs. (Do not plug in he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enance Material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Ta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ri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Ki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Side of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a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 Scrub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Tank Set-Up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Nitrogen Cycle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d. Jan. 13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rmission Sl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itrogen Cycle, Wet-Tank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urpose of the bubbler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selling a fish tank kit, what items would be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83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241760" y="1828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760" y="1905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ng The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17551" r="0" b="0"/>
          <a:stretch/>
        </p:blipFill>
        <p:spPr>
          <a:xfrm>
            <a:off x="228600" y="2743200"/>
            <a:ext cx="86868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t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Grate, Gravel, Airline Tubing, Bubbler Tubes and background set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ank in permanent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ater, Dechlor, Salt and Charc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n Bubblers, Heaters and 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n and adjust gang-va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: Class Intro, Tank Materials, Shallow 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2: I am, Clean Out Tanks, Dry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3: Nitrogen Cycle, Wet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4: Tank Testing, Bacteri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5: Introduction, Mistakes, Common F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6: Field Trip to Pet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7: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8: Tank Set-Up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Nitroge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Tank Grad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Zon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iph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alendars, Salt, Dechlor,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15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ad Zone, 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raw a diagram of the nitrogen cycle, showing the chemicals, who is making the chemical conversions and time periods (wee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nk Grad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0% of total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%= Check Tank &g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&l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 = Almost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= Reluctant to contribute effo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= Must be asked to contribute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70% = Don’t contribute, don’t help, don’t siphon, don’t get wet or don’t have f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anger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rium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is responsible for the atrium tank for 1 week during seme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eed 1 spoon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e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crub glass &amp; change 15 gallons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mmonia, Nitrite and Nitrate, rec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chemical is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ange is des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ad Zo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ad z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dead zone to your fish tank. How could a dead zone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low chart to show why the dead zone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m I made of Co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the human body is made of car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50% of American’s Carbon is from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9920" y="4408560"/>
            <a:ext cx="2676240" cy="199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2384280" cy="28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1600200" cy="105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21240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Tes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mart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Nitroge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smart-Nitrogen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ed Jan 2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member- Field Trip next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istakes,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hemical levels would you expect to be high?  Why is this happening?  What should be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Your 3-week old fish has lost its color and clamping its f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Your fish dies after 3-days in a brand new ta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Algae is beginning to grow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Briefly state what the “Dead Zone” is and how it could occur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tha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Methan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methane production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Methane Production to the Dead Zone? (Similar/Differ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vs. Bad Bacte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08200" y="4267080"/>
            <a:ext cx="16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som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b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an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Mist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with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that are not due to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3718080"/>
            <a:ext cx="38862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6666" r="0" b="14584"/>
          <a:stretch/>
        </p:blipFill>
        <p:spPr>
          <a:xfrm>
            <a:off x="0" y="1523880"/>
            <a:ext cx="8991720" cy="4637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Freshwater /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788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ktopgoldfish.com/goldfish-type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4360" y="6216480"/>
            <a:ext cx="67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L_Iznh9Vbs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290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Bacteria, Mistak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2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heck on Fish (Monda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cclimation, Ge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2 good bacteria and 2 bad bacteria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mmon mistakes people make into 4 cate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Read “Adding Fish” on Petsmart Tank Set-Up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Accl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vs. Saltwater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o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ue Jan 26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lder and Test (Thu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rine Tanks,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introduce a fish into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fish: type, color, unique features, location, behavior, movement, interaction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 Score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itle Page &amp; 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4 Set-Up and Nitrogen Cycle Hand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1 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/ 70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2280"/>
            <a:ext cx="4038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724200"/>
            <a:ext cx="4724280" cy="3133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76920" y="3668760"/>
            <a:ext cx="4267080" cy="3189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1676520" cy="1298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209680" y="1295280"/>
            <a:ext cx="1685880" cy="1266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086600" y="10476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952880" y="10666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ll tank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new tank &amp; prepar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iltration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Nitrogen Cycle in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Dead 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oblems/mistakes in the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mmon freshwater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 Salt and Freshwater T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new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F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Fol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ur Jan 2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Label (Fish Name, Picture, Interesting Inf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how to set-up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Aurora Cichlid."/>
          <p:cNvPicPr/>
          <p:nvPr/>
        </p:nvPicPr>
        <p:blipFill>
          <a:blip r:embed="rId1"/>
          <a:stretch/>
        </p:blipFill>
        <p:spPr>
          <a:xfrm>
            <a:off x="4419720" y="4191120"/>
            <a:ext cx="1981080" cy="1347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2133720" cy="1360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1828800" cy="1380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Tiger Barb."/>
          <p:cNvPicPr/>
          <p:nvPr/>
        </p:nvPicPr>
        <p:blipFill>
          <a:blip r:embed="rId4"/>
          <a:stretch/>
        </p:blipFill>
        <p:spPr>
          <a:xfrm>
            <a:off x="228600" y="4343400"/>
            <a:ext cx="2209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/R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ow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ur Jan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 am Presentation Emailed (M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ank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rience with the Ocean, Marine Biology and Fish Tank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of Marine Biology are you most interested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ctation for this class?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arine Bio Career, Entertainment, Credits, Interest etc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éc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hlor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el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 -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 - 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gen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-o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Dead 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-Gravel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FFCO</cp:lastModifiedBy>
  <dcterms:modified xsi:type="dcterms:W3CDTF">2010-01-29T18:15:5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