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7D8B-2347-4066-9AD9-BE9B57A0A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E917-E904-4E27-9EA7-8E97C6EE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B6AB-B443-410C-9217-2363CCE2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CFC0-0E00-4877-9E6D-C4D62E706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5167-ADE1-46AF-A44E-BFA29693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AE78-6E68-487B-A668-64989488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1DB3-EFD2-4FBA-AE88-60FD2612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05B2-ABD1-499C-8F2F-5441EEB5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0F61-86AF-486B-81F1-C1A3711B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B025-EB84-416C-B739-9E129AC8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ADE4-DC1C-47DE-B4E3-6595088E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C3D1-9223-43C3-B827-0A9A1FC8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523E-90E6-4D60-AC95-DED8CEBD6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desktopgoldfish.com/goldfish-types.php" TargetMode="External"/><Relationship Id="rId2" Type="http://schemas.openxmlformats.org/officeDocument/2006/relationships/hyperlink" Target="http://www.youtube.com/watch?v=L_Iznh9VbsY&amp;feature=related" TargetMode="Externa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Set-Up 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562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ne Bi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ing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876920" y="685800"/>
            <a:ext cx="388620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hallow Seas Mov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k Materials C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Tank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y Tank Set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on. Jan. 11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 am Pre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ank Materials Cont. &amp; Dry Set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benefit of a large t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be done to water before it is added to a t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3 types of filtration? Briefly describe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y Tank Set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OAP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Gravel and Rinse until runs cl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nse/Wipe off everything inside of ta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 and label all airline tub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 all electrical plugs. (Do not plug in he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tenance Materials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 Tan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Test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ri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Kit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 Side of 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hlor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ss 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monia Tes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ite Tes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ate Tes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ph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ass Scrub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Petsmart/Petco Tank Set-Up Pamph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en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Petsmart/Petco Nitrogen Cycle Pamph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t Tank Set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t Atrium T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Wed. Jan. 13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ermission Sli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Nitrogen Cycle, Wet-Tank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purpose of the bubbler sys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ere selling a fish tank kit, what items would be inclu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83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241760" y="182880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0760" y="190512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ss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ling The T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0" t="17551" r="0" b="0"/>
          <a:stretch/>
        </p:blipFill>
        <p:spPr>
          <a:xfrm>
            <a:off x="228600" y="2743200"/>
            <a:ext cx="868680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et Tank Set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Grate, Gravel, Airline Tubing, Bubbler Tubes and background set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tank in permanent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Water, Dechlor, Salt and Charco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g in Bubblers, Heaters and Ligh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on and adjust gang-val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Set-Up Unit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1: Class Intro, Tank Materials, Shallow S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2: I am, Clean Out Tanks, Dry Tank Set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3: Nitrogen Cycle, Wet Tank Set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4: Tank Testing, Bacteri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5: Introduction, Mistakes, Common F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6: Field Trip to Petsm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7: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8: Tank Set-Up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 (Nitrogen Cyc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Tank Grad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d Zone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k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Siph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Calendars, Salt, Dechlor,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t Atrium T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solidFill>
            <a:srgbClr val="fa1d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ri Jan 15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N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ead Zone, Tank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raw a diagram of the nitrogen cycle, showing the chemicals, who is making the chemical conversions and time periods (week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ank Grades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10% of total g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%= Check Tank &gt;1x/week out of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Check Tank 1x/week out of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Check Tank &lt;1x/week out of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5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Always contribute effort in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% = Almost always contribute effort in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% = Reluctant to contribute effo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% = Must be asked to contribute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70% = Don’t contribute, don’t help, don’t siphon, don’t get wet or don’t have fis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ank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angero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red Lev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happe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you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trium T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group is responsible for the atrium tank for 1 week during seme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i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eed 1 spoon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eek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crub glass &amp; change 15 gallons of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T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mmonia, Nitrite and Nitrate, recor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the chemical is b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ange is desi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solve the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this occurr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ead Zone Art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ead z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he dead zone to your fish tank. How could a dead zone occur in your t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flow chart to show why the dead zone occ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4816440"/>
            <a:ext cx="3048120" cy="2041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048120" y="4818240"/>
            <a:ext cx="2895480" cy="2039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019920" y="4767120"/>
            <a:ext cx="312408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m I made of Cor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% of the human body is made of carb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50% of American’s Carbon is from c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19920" y="4408560"/>
            <a:ext cx="2676240" cy="1992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143000" y="3581280"/>
            <a:ext cx="2384280" cy="2867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5410080"/>
            <a:ext cx="1600200" cy="1057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733920" y="4724280"/>
            <a:ext cx="212400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 (Test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an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Mist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Fish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nk Set-Up Uni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Day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k Materials Notes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ow Seas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Da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Da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co-Setting Up An Aqua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mart-Setting Up an Aqua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co-Nitrogen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smart-Nitrogen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Day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k Testing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d Zon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Day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 Disease Hand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Mistakes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 Pi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Day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Day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solidFill>
            <a:srgbClr val="fa1d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ay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ed Jan 20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member- Field Trip next cl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Mistakes, 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hemical levels would you expect to be high?  Why is this happening?  What should be d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Your 3-week old fish has lost its color and clamping its f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Your fish dies after 3-days in a brand new tan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Algae is beginning to grow in your ta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Briefly state what the “Dead Zone” is and how it could occur in your ta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ethane Art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Methane fo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ould methane production occur in your t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Methane Production to the Dead Zone? (Similar/Differen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4816440"/>
            <a:ext cx="3048120" cy="2041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048120" y="4818240"/>
            <a:ext cx="2895480" cy="2039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019920" y="4767120"/>
            <a:ext cx="312408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vs. Bad Bacteri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508200" y="4267080"/>
            <a:ext cx="166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osom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ob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ano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o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mmon Mista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istakes are problems with the Nitrogen Cy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istakes are problems that are not due to the Nitrogen Cy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257800" y="3718080"/>
            <a:ext cx="388620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0" t="16666" r="0" b="14584"/>
          <a:stretch/>
        </p:blipFill>
        <p:spPr>
          <a:xfrm>
            <a:off x="0" y="1523880"/>
            <a:ext cx="8991720" cy="46371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on Freshwater /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opical F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57880" y="5638680"/>
            <a:ext cx="53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esktopgoldfish.com/goldfish-types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24360" y="6216480"/>
            <a:ext cx="670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L_Iznh9VbsY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124080" y="1523880"/>
            <a:ext cx="2901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 (Bacteria, Mistak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l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t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solidFill>
            <a:srgbClr val="fa1d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ri Jan 22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heck on Fish (Monda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cclimation, Get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2 good bacteria and 2 bad bacteria in your t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the common mistakes people make into 4 categ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Read “Adding Fish” on Petsmart Tank Set-Up Hand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 (Acclim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sh vs. Saltwater T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Fish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for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solidFill>
            <a:srgbClr val="fa1d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ue Jan 26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older and Test (Thu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arine Tanks,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to introduce a fish into a fish ta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your fish: type, color, unique features, location, behavior, movement, interaction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nk Set-Up Unit Score C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Title Page &amp; 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FTF Day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Tank Materials Notes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Shallow Seas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FTF Da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FTF Da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4 Set-Up and Nitrogen Cycle Hand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FTF Day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Tank Testing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Dead Zon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FTF Day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1 Fish Disease Hand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2.5 Common Mistakes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2.5 Fish Pi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FTF Day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FTF Day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/ 70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403848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sh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8320" y="152280"/>
            <a:ext cx="403848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t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3724200"/>
            <a:ext cx="4724280" cy="3133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876920" y="3668760"/>
            <a:ext cx="4267080" cy="3189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57200" y="1143000"/>
            <a:ext cx="1676520" cy="1298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2209680" y="1295280"/>
            <a:ext cx="1685880" cy="1266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7086600" y="1047600"/>
            <a:ext cx="2057400" cy="13716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4952880" y="1066680"/>
            <a:ext cx="190512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Set-Up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udents should be abl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all tank materi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a new tank &amp; prepare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filtration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Nitrogen Cycle in deta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Dead Z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problems/mistakes in the ta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common freshwater f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iate Salt and Freshwater Tan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new f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 (F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in Fol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solidFill>
            <a:srgbClr val="fa1d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ur Jan 28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ank Label (Fish Name, Picture, Interesting Info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 how to set-up a fish ta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following f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y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Aurora Cichlid."/>
          <p:cNvPicPr/>
          <p:nvPr/>
        </p:nvPicPr>
        <p:blipFill>
          <a:blip r:embed="rId1"/>
          <a:stretch/>
        </p:blipFill>
        <p:spPr>
          <a:xfrm>
            <a:off x="4419720" y="4191120"/>
            <a:ext cx="1981080" cy="13478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858000" y="4114800"/>
            <a:ext cx="2133720" cy="1360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2438280" y="4191120"/>
            <a:ext cx="1828800" cy="1380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Tiger Barb."/>
          <p:cNvPicPr/>
          <p:nvPr/>
        </p:nvPicPr>
        <p:blipFill>
          <a:blip r:embed="rId4"/>
          <a:stretch/>
        </p:blipFill>
        <p:spPr>
          <a:xfrm>
            <a:off x="228600" y="4343400"/>
            <a:ext cx="220968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/Re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k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llow S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ay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ur Jan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 am Presentation Emailed (M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ank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your experience with the Ocean, Marine Biology and Fish Tank C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art of Marine Biology are you most interested 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your expectation for this class?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Marine Bio Career, Entertainment, Credits, Interest etc..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mma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ank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esth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éc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ysical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bb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l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em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log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hlor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 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ank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tai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esth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vel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ysical Environment -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W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 - He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ogen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Fil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ed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chan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g-on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ph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 Dead 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log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-Gravel Fil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ph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hlorin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ess Co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K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FFCO</cp:lastModifiedBy>
  <dcterms:modified xsi:type="dcterms:W3CDTF">2010-01-29T18:15:57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