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ACE-B614-4F74-8770-AD809419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044-86D6-4129-A934-AA386F6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A28-90CB-4794-88B6-5ABED1C1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9F6-2AA8-4A5F-B581-6BA89284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6FE-D2C5-41E4-9CA9-F1DFFAF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61F-44D9-491C-9524-D329B35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898-71F6-4475-B876-B9E92716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302-A644-4876-B1DF-F90A848A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F98-2C7A-4D91-B2CD-7055152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AA1-A526-4AAE-BA2C-BD09BB7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0FD-CADD-415D-B6EF-C841EEE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075-36C4-4831-B365-A10E1A9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493-FC57-4B27-BEF5-5B4C83880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esktopgoldfish.com/goldfish-types.php" TargetMode="External"/><Relationship Id="rId2" Type="http://schemas.openxmlformats.org/officeDocument/2006/relationships/hyperlink" Target="http://www.youtube.com/watch?v=L_Iznh9VbsY&amp;feature=related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862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llow Seas 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an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n. Jan. 11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 am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Materials Cont. &amp; Dry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nefit of a large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to water before it is added to a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filtration? Briefly describe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AP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Gravel and Rinse until ru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se/Wipe off everything inside of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and label all airline tu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ll electrical plugs. (Do not plug in h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Material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T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ide of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Scrub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Tank Set-Up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Nitrogen Cycle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d. Jan. 1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mission Sl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itrogen Cycle, Wet-Tank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rpose of the bubble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selling a fish tank kit, what items would be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41760" y="1828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1905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ng The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7551" r="0" b="0"/>
          <a:stretch/>
        </p:blipFill>
        <p:spPr>
          <a:xfrm>
            <a:off x="228600" y="2743200"/>
            <a:ext cx="8686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t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Grate, Gravel, Airline Tubing, Bubbler Tubes and background set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ank in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ater, Dechlor, Salt and Char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Bubblers, Heaters and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n and adjust gang-v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: Class Intro, Tank Materials, Shallow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: I am, Clean Out Tanks, Dry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: Nitrogen Cycle, Wet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: Tank Testing, Bacter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5: Introduction, Mistakes, Common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6: Field Trip to Pet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7: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8: Tank Set-Up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Nitroge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ank 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Zon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iph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alendars, Salt, Dechlor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ad Zone, 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 a diagram of the nitrogen cycle, showing the chemicals, who is making the chemical conversions and time periods (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nk Grad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% of total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= Check Tank &g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&l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= Almost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= Reluctant to contribute eff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= Must be asked to contribut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70% = Don’t contribute, don’t help, don’t siphon, don’t get wet or don’t have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rium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is responsible for the atrium tank for 1 week during sem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eed 1 spoo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crub glass &amp; change 15 gallon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mmonia, Nitrite and Nitrate, rec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chemical i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ange is des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ad Zo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ad 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dead zone to your fish tank. How could a dead zone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low chart to show why the dead zone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 I made of Co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human body is made of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50% of American’s Carbon is from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4408560"/>
            <a:ext cx="2676240" cy="199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38428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2124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mart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mart-Nitrogen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d Jan 2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ember- Field Trip nex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istak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emical levels would you expect to be high?  Why is this happening?  What should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our 3-week old fish has lost its color and clamping its f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Your fish dies after 3-days in a brand new ta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lgae is beginning to grow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riefly state what the “Dead Zone” is and how it could occur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a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Methan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methane production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Methane Production to the Dead Zone? (Similar/Differ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vs. Bad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08200" y="4267080"/>
            <a:ext cx="16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so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with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that are not due to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3718080"/>
            <a:ext cx="38862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666" r="0" b="14584"/>
          <a:stretch/>
        </p:blipFill>
        <p:spPr>
          <a:xfrm>
            <a:off x="0" y="1523880"/>
            <a:ext cx="8991720" cy="4637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eshwater /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788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ktopgoldfish.com/goldfish-type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4360" y="6216480"/>
            <a:ext cx="67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L_Iznh9Vbs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Bacteria, Mista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2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eck on Fish (Mon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limation, Ge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2 good bacteria and 2 bad bacteria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mmon mistakes people make into 4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d “Adding Fish” on Petsmart Tank Set-Up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Accl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vs. Salt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ue Jan 26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lder and Test (Thu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rine Tanks,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introduce a fish into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fish: type, color, unique features, location, behavior, movement, interac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 Score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itle Page &amp;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4 Set-Up and Nitrogen Cycle Hand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1 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/ 70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24200"/>
            <a:ext cx="472428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668760"/>
            <a:ext cx="4267080" cy="318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1676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129528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086600" y="10476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1066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ll tank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new tank &amp; prepar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iltra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Nitrogen Cycle in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Dead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blems/mistakes in the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mon freshwater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Salt and Freshwater T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new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ur Jan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Label (Fish Name, Picture, Interesting Inf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how to set-up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urora Cichlid."/>
          <p:cNvPicPr/>
          <p:nvPr/>
        </p:nvPicPr>
        <p:blipFill>
          <a:blip r:embed="rId1"/>
          <a:stretch/>
        </p:blipFill>
        <p:spPr>
          <a:xfrm>
            <a:off x="4419720" y="4191120"/>
            <a:ext cx="1981080" cy="1347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133720" cy="13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Tiger Barb."/>
          <p:cNvPicPr/>
          <p:nvPr/>
        </p:nvPicPr>
        <p:blipFill>
          <a:blip r:embed="rId4"/>
          <a:stretch/>
        </p:blipFill>
        <p:spPr>
          <a:xfrm>
            <a:off x="228600" y="43434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/R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ow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ur Jan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 am Presentation Emailed (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ank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rience with the Ocean, Marine Biology and Fish Tank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Marine Biology are you most interes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ctation for this class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arine Bio Career, Entertainment, Credits, Interest etc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é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hlor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 -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 - 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-o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Dead 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-Gravel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CO</cp:lastModifiedBy>
  <dcterms:modified xsi:type="dcterms:W3CDTF">2010-01-29T18:15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